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78EC-7010-4412-94E7-3C539C1A483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A980-6F06-4EAA-AF32-1B73F7E4F4B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AFC86-A241-4141-A28F-FC8A4BCBC5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EA75B-2507-4472-8C1D-C5EBA101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CFB11-5C10-4B00-8DBC-5991C389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25F9C-5983-4115-AA87-8BED278970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0AC02-064B-4853-ADD3-202711B6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C9B6B-8B82-429D-AAA2-22BA4B4F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2653F-5DB3-4221-B8DB-FF67960B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2C1DE-4508-4EA3-A738-6AB2B295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6B421-0385-449E-B8DB-E48394D05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9BF50-C57D-488D-9DD8-076245EF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616F5-D952-4BCF-B188-92A17B2E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9F80C-5371-4F57-B2B3-CAD18783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F365-7477-4F6B-B227-82A96CCFB61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显著苍白，肢端青紫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9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48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排出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去除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恢复有效循环血量，纠正微循环障碍，恢复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心肌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正常代谢和防止多器官功能障碍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入院后，立即开通两条静脉通道，按医嘱输同型红细胞悬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血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切口换药后进行冰敷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患者已进行了哪些治疗？还需如何处置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休克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休克的病因和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休克患者的身心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1/7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患者精神好转，眼睑及口唇苍白好转，双下肢皮肤较前温暖，足背动脉搏动良好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应如何监测病情变化？②患者病情是好转还是恶化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液种类：先晶后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误吸、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克好转指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志清楚、安静，四肢温暖，末梢循环充盈良好，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ml/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脉搏有力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收缩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呼吸均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左右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.66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红细胞压积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血浆电解质和酸碱平衡基本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心输出量、动脉血气分析、动脉血乳酸盐含量等监测休克表现及进展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休克的病理生理过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休克一般监测和特殊监测项目及意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各种类型休克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主诉腹胀、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入院，肠镜提示距肛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可见一溃疡病变，病例提示腺癌，行直肠癌根治切除骶前吻合术，术后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7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术后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患者出现寒战、高热、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1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辅助检查：血常规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3.5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 0.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G 86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LT 80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气分析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a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电解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3.15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急诊剖腹探查发现：腹部切口呈化脓性感染，腹腔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脓性液体，骶前吻合有瘘口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患者发生了什么类型的休克？原因是什么？还出现什么问题？护理要点是什么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出现感染性休克，与术后吻合口瘘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同时出现低钾血症、代谢性酸中毒、呼吸功能损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护理要点包括补充血容量、控制感染、纠正酸碱失衡、应用血管活性药物应用皮质激素、重要器官功能不全护理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休克患者扩容治疗时首选的晶体液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碳酸氢钠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衡盐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提示有休克的休克指数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  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肝硬化，突发大量呕血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患者烦躁，面色苍白，皮肤湿冷，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.3/9.3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其表现属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早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中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晚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未发生休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虚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失血性休克，正在进行扩容疗法，中心静脉压检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快输液速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维持原速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减慢滴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停止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用强心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休克患者，在抢救过程中出现呼吸困难、发绀，吸氧无效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降低。诊断为呼吸窘迫综合征，护理措施首先应采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呼吸终末正压给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持续吸纯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快速输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切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给血管活性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休克护理措施错误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规吸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给热水袋保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观察每小时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测血压、脉搏一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休克患者的临床表现和检查指标，判断其临床分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休克患者，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机体受到强烈的致病因素侵袭后，导致有效循环血量锐减、组织血液灌流不足所引起的以微循环障碍、代谢障碍和细胞受损为特征的病理性综合征。休克发病急骤，进展迅速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女性。因右股骨头坏死，在腰硬联合麻醉下行“右髋关节置换术”，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返回病房，留置伤口引流管一根，尿管一根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检查见敷料干洁，下肢肢端温暖，口唇淡红，引流正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神志淡漠，口唇苍白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下肢肢端皮肤温凉，少许出冷汗。检查见敷料渗血较多，伤口引流管引流暗红色血性液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留置尿管引流淡黄色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发生了什么问题？处于何阶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评估要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2:28Z</dcterms:modified>
  <cp:revision>89</cp:revision>
  <dc:subject/>
  <dc:title>内科护理学</dc:title>
</cp:coreProperties>
</file>